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AB4-CF86-4151-8758-C2E7AE81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438-B0F9-455A-8BDA-30BA78B1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443A6-8107-41B0-9C4C-3203F15B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EC9E4-3A12-4B79-89FC-8F2304AE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B2C5C-95E8-45C0-BE4A-1E8B50AC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DE888-6AF8-4CE5-A784-8C3E8E8E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27482-D6DE-4F85-9862-A74C97E1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8E28A-7BC2-4B3D-9DE5-157F50B1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65FD2-26AB-44E0-816E-2D2380C3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3C9A4-F5F7-4889-B749-1C1AC5C4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D89D4-48E8-454B-B2E5-0BA21957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9D9ED-EC9E-4E3B-95E2-FD194F73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FBF-F120-4DDD-AD7D-27E5F4DF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AD85A-2427-4A35-BB2B-6BDB3461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276B6-C437-4563-8BCF-D9FE7D5D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12826-96DC-406E-BA83-F952C5D7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F81E8-A377-4B59-BF93-9E87EA8D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F25F0-52C8-42A2-AE1F-CC70A60C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ACB67-B570-4E5E-83D6-1EECB6B6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FCF9F-47A6-4A3A-A4C4-C1B56401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F7846-8766-4ACE-B077-EAE6029E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8E319-D7D2-457C-87C1-AE6D193D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ECDEF-A289-4873-8456-9F7EB58C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60B-9F9D-4107-92C5-953B77A1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30731-3092-4053-B098-1919896C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B7955-755B-479D-8357-E1ED8A2E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067A5-4819-4894-92E9-F899AE12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4CBA1-11A4-45B1-8E3D-FB73C42D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10FBD-BC33-4E2E-8244-BAFB2494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12E5C-952C-455F-8C4A-73AD9499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7B8E3-EACA-4434-A650-2A1D5282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96681-8803-4805-8706-54E4C932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55FEC-DC5E-4FCA-B836-2F387A41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DA6FD-291D-4E00-99A1-1AA4DCA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1C73-0052-438B-AC3C-BD7AA00D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DCAF3-B80E-407C-AECC-9D2435A8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7D126-DC72-4394-B742-589FD24D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AA020-F7E1-4148-9E12-3B493685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8BA20-1581-4982-BDD2-E7B4ACF2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7880B-AF81-4C04-8548-E2CBBFE0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60DD6-07B6-48B5-980A-0CE956BE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B52A7-0149-4C1A-BDFF-98FE782C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A1AFB-F4CC-4D03-BEDF-DE7B2F3B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F2B93-2E90-4A74-8BCB-AB0C91C3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3F360-EF11-419E-B95A-5FBC19C5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3F7C-A508-4B7E-AE31-79B936B4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02ABD-09FF-440C-BA19-7D143238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AF842-CFD6-4389-A66A-2848BB66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899B1-A02E-4576-9B0F-081DFB88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10809-2E5B-4763-9F2D-CC4CDBA8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143DC-A534-451F-A104-269D0E62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45931-5924-4642-AF77-2739842A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C313A-4FB6-4D93-8A9B-C8F2E9FF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1516B-BE61-4035-8B15-480B7091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15F2F-2596-425E-809D-558CC4B5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F89CA-6777-49B2-A2C8-309BA458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DA13-48E1-4180-A528-6E60178B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49DAF-8BB0-418E-B619-DAC01146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7D467-9A5E-4914-86EA-E32A57E5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50894-BA38-4377-9662-96CB5AB8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EB577-32F8-4F09-8B36-FA04988E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2F819-E9B3-441F-AEB6-F03B4368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47AC2-69F8-4FD8-8633-965CF5AF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ED284-1C3B-4F93-A8F1-075E5940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DB703-3924-4B40-B7DA-BC588F55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C9176-E209-4D19-A879-25EFB9E8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97E1C-EABE-4DC8-A679-2278FDC4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2C83-C7D9-423C-BF0D-8B06A95B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D4106-ABF0-44E6-91FA-319EBB7A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70B56-F145-4334-8C67-B27072D9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9FD32-B8B7-4D68-8C0B-81981FDB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BF266-F848-48CB-A24F-57E39E0A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5309F-BE33-4DF6-BBD5-8DB4224A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BA3A0-2247-4908-8466-3A8D2A8B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B6F4F-3BB4-4169-AFF5-E19F48C8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6913E-E2BD-4AB0-8B3D-891F06F8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E1C19-F5B4-44F9-948B-79216D62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92C81-3E80-4B3E-82E6-134A0DE2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C047-CDE4-477D-BE5B-86276EEC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75269-BC02-40E0-8C10-548C1438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742FF-6F28-4EC8-AB83-B270D092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D2E23-E2A4-4F30-BD77-B3D87791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B6318-12C7-4BC2-93DF-51B7772A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A16F2-76E2-4084-A09B-B34554A7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9763F-5C33-44CE-B662-B799BD55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29452-4A6C-4C47-A27E-19ECC14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0023A-83BD-4D75-8499-9941947B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02BC6-34E1-4302-B10D-00EB9079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74969-8F36-49A5-8B5D-B7493409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E31F-86F7-4B8C-9651-8A5E95EB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F478E-9DAA-4FF4-BF3A-65517B6F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4ADB6-A86F-4F7A-BC8B-98F54B1F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368AD-A634-44B4-B6D4-44EED6D8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20BEA-9110-4EF7-A0D4-F2E05B9F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3F8890-9DBF-4D96-877E-6149E4B3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534AF-9724-44EA-B7B5-70EA4349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CB679-87B9-47D3-B124-5738C367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4A80C-7F20-4D1A-A6D6-C201048F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C4EAE-999A-4E33-B9DD-3DFA101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9B70A-39CF-4AA0-89C3-772B3F53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8003-D619-4C0C-85CC-63EC0291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441EC-A863-4687-9C1C-4BF862A7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F5F9B-4374-4A73-AA62-35A349E5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FCB27-5CFC-4DF8-97A7-78CCF372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558EE-62EE-49D6-9C28-D930001D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D9A4DA-C730-4539-9389-EA59D637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A28BD-BD54-4049-9489-4F8431B2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5F1D09-10F0-478B-BB09-7141CEC6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6622A-416F-4007-A4DF-28DA7031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3727A-F5F4-4A60-8041-160AEA50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88C99-AFB4-41DA-ADE5-C0972E98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FCB-6683-4138-BF00-FCE4F4FD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A72F-D698-4327-BA9B-3E82DC80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19E51-0BDE-4F03-BCF7-2B5FA4B0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9AC0CF-9D94-402A-A407-68EA2E0E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1DC5D-288B-4B05-AF3E-1731EABC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4F833A-8487-4012-91C4-BD152760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9DFC6-5C9D-4C71-9B25-40CE877A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4F79E-3505-45AA-928B-6FF1DB02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C3025A-18C1-4664-9D23-F5CCF87F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8B0CD-2696-484B-A4A6-5976AE80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D3178-48A7-406A-94E3-866516E6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8B171-124F-4A8B-99FC-74C217A4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EF9C-73A0-47A8-8F92-7B4E0B5E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959813-CD2B-4617-8938-B785D3EA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4C5A3-975A-475B-A855-FD4CBE6D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88D09E-2AC0-4270-965C-A5EB3B34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721065-FF81-4466-AB71-F1638D5D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082B5-248F-415B-B6DB-64C5374E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09C17A-A1A0-4561-ACE0-458F3FCC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EEB73-4E4D-4B42-8965-2F258478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965F0-FAE7-4D3B-8550-8C5C3512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C60CA-76CC-4485-98F6-0A5947CB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2AEFEC-C3FF-459B-BB3A-592FDD9A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D4F3-51BD-4359-A0ED-0B08E94F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0EAF5-621D-4145-86BC-57128FEA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6580C-B7B4-4FA5-9FA3-A56B36CD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0496E3-07BC-4C09-A45C-09D7545F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EECF16-D5C0-4175-8E64-E33A3B4F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35A244-3EB7-45DF-9630-AD1F597E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AF5718-623D-436A-ADFA-22ED9AA7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6F457-D2B3-41F6-912C-6329AD9F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144BA-8D39-4E5A-8BA9-6EFF7D10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ABC28-9B33-4926-9089-616DC597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524AA-5529-4C29-A61D-339A12CE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A191-F057-48EE-9364-3AA2C8C4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3E2D22-12CB-4D2A-9A1A-CF321013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6C1E0-FCC6-408C-B4CF-404C760A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E99F26-6ABC-4AEC-9287-C529CD34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E44354-F7AF-4F0B-868F-868B9E4E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7DE86-8E34-4698-9420-D4E8EBD4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EBFB0C-7BA9-46B8-B609-C8136F0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49FEB4-1004-4B8D-B86D-4CD5541A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B453A6-157E-4F5D-A6BD-B7827527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389D5D-A4D8-4AE1-B486-F3370C42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631FA8-EB2B-4BD7-967F-CBE69735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61FF-D110-4F4F-A25C-F97ADF3A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2F6B5-3CA9-4497-921F-F4EC1734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26B74F-726A-447B-8B18-AE93FC21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FADA2-FC50-4F07-9DB8-377168A5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5BB1D2-9D75-4DF6-B38D-D5E69AC7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F2F31F-A79B-43A3-888A-7C417297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B562B-7E6B-48E1-B011-C01B665B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D8268-7867-4198-8A8A-71D5ECB8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FEF0E-7B5E-45F0-AB8E-70730AD4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484411-A12E-406B-9A0C-804850D6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70CA8E-4ED5-444A-AEAA-81CAAE39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D8D2-9FDD-490C-BAE4-F7E0A5CC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120830-F4AD-47BB-9C24-BE3DCC75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D372E9-E424-4935-A138-D0AB8B7B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4D0DB7-5286-423F-B0CC-1306649C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3F25-29B0-4A41-B321-D68D8852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1A3A1-C89E-47EB-9BCB-D5622085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6632-1864-4E5B-BA3C-DDBF2029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A304-A544-44E4-9AB2-907400F9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48D-C4F2-4EBF-A2E2-D0592CD6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C1D0-F128-4A97-A874-8ED03B87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D5AA-9F8A-4415-8849-02D38235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5CBD-0FBD-4C3E-B36E-AE30FD75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60C2-174C-4FBA-9F43-BB1C1F8A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A8072-3DDA-4A5F-8FAB-77553FDC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499F-8C4D-4A21-8588-E72EC91C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10B4-6101-45AD-82A7-5335730B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9A112-FF14-4FA1-A736-39BDBBBB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A7746-605E-4BFA-90FF-B330B29C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7982-FA7C-49C9-9B35-890FEA79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19A-4E3B-4289-9102-0C4DE3E2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B124-BD0F-4B01-B645-9998AA3D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E4B3-9F8C-4BBE-873A-BFB733BF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03883-F1CA-4F17-BC76-50756250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EE8ED-99AE-4D1B-B235-A83F7FFF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79185-D05D-4436-8AF2-12F38829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8DB7-3691-4198-BB83-74283F69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1F05D-F8B9-4A2F-9016-A47FD177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3BA49-1C5E-49EB-B9F5-BC908EF2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434F3-032F-4510-8EA7-9601CEB4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B6FA6-FF5B-423F-B7A4-3302DE26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8D5-DE95-41A9-B669-0F7AF2DE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1604-EF6C-47D6-B9B9-BEBBD0CF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D4759-62F7-4ED2-9D6A-A5686AC1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1226E-EAEB-4DC2-BBBC-997D280F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9A058-2D0E-4FFE-BC2B-689FF986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A7575-5BAD-4022-AB2A-7E274EAB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3387E-67C3-424A-8B25-F3C1C866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EDB20-82C7-4C58-91AB-ED50555A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9CA29-AFB8-4689-85A2-E7AC8188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16B58-F2D0-4DD1-AC57-C2EC8CE8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AB9DF-1750-4D03-87A2-C964FF66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C3D-9DC6-4AB1-832D-DD9F1133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4BC36-8527-4D7C-873D-53781E41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856E-8292-47ED-9954-A5E0FFFA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F0CBF-D66B-46B7-9719-1D0226FE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340B-9DDB-442C-BA60-547651CA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B0CD4-0FE3-46BB-8D68-0964FF51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51223-3790-448B-AED9-9A4950B5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A81F-A7D1-445F-9DFA-B94B80D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4D5F-6C53-4B78-A361-5847906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4525-857B-403B-BB1F-60933954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E2A6A-52E6-4803-A478-35BA35BC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A1B-94AE-4C73-B174-F4CF10F4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F92CF-2456-40F2-ADD7-56DE4244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B34FC-DF44-417F-9484-15084A83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42C74-3E31-4431-ADE1-A0DEE814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B1A7-7C23-4401-8E33-8AA8B673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2C6E0-4B53-4C25-BC13-50AAC7E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1F25F-B20C-4FC2-ACDE-BB2838B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2435C-D50E-4532-970A-04A3EC14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FABE4-AEEA-4CB0-B163-75AB3E2C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5DB8B-641E-4196-93BB-3BF6DBDA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7824F-9528-432F-B4B6-6D788FAC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792-7AD3-4022-BD1A-74F03690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3CAF6-BE3B-478C-9C80-A55292D3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83E46-06EE-4D44-AA58-0BF7D783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9F1A5-70C1-4BD5-8608-E3523269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6B04-71D2-4170-9683-7DB9091F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FCE02-3ADF-4A61-82C0-A2F0120E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4BBA8-06A6-4861-ADD7-5458AAED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FEE36-7ABB-415A-A04A-FB89C7AC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935E2-B251-4D10-89E6-4F6B034F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498A1-CB56-46C2-A185-3E372265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85452-69A6-448D-B3CB-21B5205A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A4A-E3FE-4C08-AC3C-4C7580D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90446-745A-4608-8792-A31F2E3A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B3855-B3A7-4B30-A3E1-4304FF82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74E05-F4C3-4733-BE10-5114AA1E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7DB51-0738-46F6-AB2E-B7D0587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08BC8-3A0A-4998-9717-24D0E874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B6CA3-9EB0-4138-8B56-C945D622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4B522-D5BB-4041-9BC5-70439B1E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68B28-F7FE-4CFF-AF76-E169B5F2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08B9-4CED-4D25-A5C3-C3767F01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75A3D-C59C-46F9-A092-DC5F9E67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5988-2C0A-455C-839A-F836064B4F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8FD5-B9C8-4C7D-915D-71EC558865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4CCB-DB4A-4F07-A024-1603A4C371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AECD-107F-43AC-BAAB-F50616A447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ED7-F858-464C-82A1-0DFB57CA6F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CFEE-233C-4F5D-8EDB-E5642F84B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1AB7-C300-4C35-879A-CE219A4E43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CBF2-909B-4CDB-897A-41A271AA2E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6BCD-1DBD-4997-A3B7-37BEC8EF7D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CB7E-1122-4AFF-B975-869BAB95A1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E996-EEDE-437A-9921-8F45714FCB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CDFC-83D8-4D3D-AF07-CB0D2E601B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E209-6864-47AF-A591-E1E49D0F3F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2754-9C6E-4DE8-8A79-44DCCEE5E9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F0C5-C67C-4627-A489-EDB6C186B9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0E6A-EF37-478D-8961-2CF4DF31F0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98B7-FC35-43D3-8E1F-5AEBE81F50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7420-AB84-4B76-AAA7-1F74B57800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921E-8415-4D01-A129-72774EC16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7443-94B5-4217-ADC9-86387AF2C5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BC13-05A7-4F62-9BF6-D8FA654492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60D3-3137-45DA-B757-1E3F48D6F6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CDB2-2159-4C2C-A5D4-F4923C312A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C9E4-B649-443B-9969-492FADF3FD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EF0B-3666-4D27-824A-AEE6374CB6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9176-6DBC-4138-96BF-4AD837049A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E12B-E175-4F86-B6B0-470D3891FF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10F3-6F12-4198-9B83-5F26472E19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46FB-B9DE-4EBA-8F0E-B5EF223BD3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2E94-C626-4FBA-8328-18D4160722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DFA8-5DEC-4DB3-BF3D-DDE503AC19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6D69-A7FD-4E8F-942D-DB67B99D59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BB17-1B9E-47E0-8E8C-4B0F3DA153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0B0A-8F2B-455C-94C6-9318CD4FA7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E9C2-23FA-4327-BB9D-63CC5675E0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F3C1-8F51-4CEB-BCB7-0BBF65CA49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1708-F3FF-458D-A7B2-C0A6222C6D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7E06-1070-48CA-A064-CE05675926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7460-8313-440E-A58D-F2349D846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30F0-3948-46E6-BD8C-66192EAD6A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81280" y="3191040"/>
            <a:ext cx="378144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19160" y="500040"/>
            <a:ext cx="8905680" cy="5953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20968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98764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70836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5608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1964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012000" y="2133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732720" y="2133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45164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47636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20968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298764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370836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45608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521964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6012000" y="26226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6732720" y="26226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745164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468360" y="3529080"/>
            <a:ext cx="3527280" cy="318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468360" y="3962520"/>
            <a:ext cx="3527280" cy="318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468360" y="5516640"/>
            <a:ext cx="352728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3"/>
          <a:stretch/>
        </p:blipFill>
        <p:spPr>
          <a:xfrm>
            <a:off x="468360" y="5950080"/>
            <a:ext cx="5256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9410" descr=""/>
          <p:cNvPicPr/>
          <p:nvPr/>
        </p:nvPicPr>
        <p:blipFill>
          <a:blip r:embed="rId1"/>
          <a:stretch/>
        </p:blipFill>
        <p:spPr>
          <a:xfrm>
            <a:off x="128520" y="757080"/>
            <a:ext cx="8886960" cy="5696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468360" y="257976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2843280" y="257976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468360" y="299736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539640" y="522936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468360" y="558972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468360" y="5950080"/>
            <a:ext cx="21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7:5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